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A837-C2CD-4A47-AC01-E2C54FEF2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3F89-F77C-4375-A229-57BCFBB0C90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31E6-511E-406E-A226-897402FFF0B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1961-BAA6-4049-A983-CD035F65374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F53A-40D7-4F0C-8725-17124B6499F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s – some tags are empty tags, meaning they do not have a closing tag, they only have an opening ta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A0B2-FE52-4599-A738-4DC0AE85E2E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B1B8-293E-4EFA-96DD-9494C05F42C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 tags should be closed in the opening tag by placing a space and forward slash before the closing angle bracket. Example:  &lt;br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empty tags:  &lt;br&gt;, &lt;hr&gt;, &lt;img&gt;, &lt;met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C624-CE4E-417A-8B60-127E07D2BFD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B96F-EF05-4FA8-A74C-F1C46D4172B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FED2-A064-44E1-90B5-BEC016C3450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618-FD1D-4A1B-869C-D8464804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680-6B08-42CD-A0B1-699B24D1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1B3-D18C-43E7-B452-8134F0E7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A0C-3ABC-4E5F-89DC-4896444F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9179-8300-4310-B656-F041DAB2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6A2E-F080-4BC4-88E2-CDFACBBD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3D73-C231-4C2E-B4A6-361AEED1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B0E4-B022-4EC8-926F-A25296A6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575B-6BD4-4FF4-A9DF-F67D6032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040B-14F7-47A9-81D8-8A049E48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5394-27EE-40A2-9CD1-3F96DAAA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CAE-4884-4255-BA34-CBBF8257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52FF-6316-4C9C-A4CE-BAA35631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6079-F349-411C-988D-1BCF168C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24B1-684A-41A1-AB20-8B5448C5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801A-9357-44C8-9FCC-5F587623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8591-36CF-4276-ACDA-1CAB015C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DB4-15A5-430E-B68E-26F57B19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8C0-0B2D-4175-93FE-85C978B9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B33-0414-468E-B8B6-AAFBE575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F75-8314-47AD-9E55-E55D3121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AF9-1A89-4611-AEEB-3AC093E5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759-76B1-41D1-8FBD-38A6637E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40D-F5C0-4090-9B46-5D20ED75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E82F-D94D-4D6C-94E0-3FF3929331B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00B4-A247-4004-A77C-F803824FBE4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25000" y="996480"/>
            <a:ext cx="738036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3.02D HTML Overview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074240" y="4328640"/>
            <a:ext cx="8069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02 Develop webpag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(Note to instructor:  HTML tags are in red only to differentiate from regular text.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reating and Saving HTML Fi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any text editor to enter HTML code and create a web pag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ve the file as an HTML file using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.htm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s the extens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old browsers will display files with the .htm extension but the latest standard requires .htm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 a web browser and open the file to display the page.  (Check the page out with several different browsers to see how each browser displays the HTML file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TML Ta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7360" y="1986120"/>
            <a:ext cx="41162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urpose of Tag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fine and describe text, graphics, hypertext links, and other multimedia elements found on webpag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ll the browser how to display the documen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viewing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urce co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a webpage, the user can see the HTML tags used to display the pag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2880" y="4677840"/>
            <a:ext cx="3810240" cy="17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view a webpage’s source cod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e browser window, Click on the View menu and choose Sourc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rcRect l="10155" t="0" r="5467" b="20835"/>
          <a:stretch/>
        </p:blipFill>
        <p:spPr>
          <a:xfrm>
            <a:off x="4754520" y="1568520"/>
            <a:ext cx="4191120" cy="2949480"/>
          </a:xfrm>
          <a:prstGeom prst="rect">
            <a:avLst/>
          </a:prstGeom>
          <a:ln w="3240">
            <a:solidFill>
              <a:srgbClr val="e3e2c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ing HTML Ta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8440" y="2049120"/>
            <a:ext cx="84153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HTML tag begins with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racter and ends with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ract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tween these characters is the actual tag name, such a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od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ea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lt;body&gt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an example of a correct tag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gs should appear in pairs, with an opening ta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lt;html&gt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a closing ta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lt;/html&gt;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nly difference between the opening and closing tag i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sed in the closing tag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ing HTML Ta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77800" y="1964880"/>
            <a:ext cx="383544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 entered between the HTML tags is formatted with the code specified by those tag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&lt;h1&gt;Welcome to my website!&lt;/h1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browser will turn on formatting at heading level 1 to display the text and then turn it off at the end of that tex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rcRect l="0" t="0" r="44535" b="32293"/>
          <a:stretch/>
        </p:blipFill>
        <p:spPr>
          <a:xfrm>
            <a:off x="4419720" y="1706400"/>
            <a:ext cx="4724280" cy="43261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2362320" y="63133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Note the source code showing the 6 levels of the heading tag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Line 8"/>
          <p:cNvSpPr/>
          <p:nvPr/>
        </p:nvSpPr>
        <p:spPr>
          <a:xfrm flipV="1">
            <a:off x="4618080" y="5663880"/>
            <a:ext cx="0" cy="571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6" descr="cell-phone-nokia"/>
          <p:cNvPicPr/>
          <p:nvPr/>
        </p:nvPicPr>
        <p:blipFill>
          <a:blip r:embed="rId1"/>
          <a:stretch/>
        </p:blipFill>
        <p:spPr>
          <a:xfrm>
            <a:off x="5707080" y="5121360"/>
            <a:ext cx="1461960" cy="1461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TML vs. XHTM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39200" y="2028600"/>
            <a:ext cx="4619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3C created XHTML as an extended version of HTM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HTML requires some modification of the old HTML standar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 tags must be in lowercas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 tags must have a closing tag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 tags must be properly nested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lt;html&gt;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ag must be the root tag for every documen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35600" y="2081160"/>
            <a:ext cx="4006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ile many old browsers can display “old” HTML, newer ones rely on the current standar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member, web pages are accessed from desktop computers, mobile phones and handheld devices—all using a variety of browser technologies!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4" name="Picture 8" descr="handheld%2520uploader"/>
          <p:cNvPicPr/>
          <p:nvPr/>
        </p:nvPicPr>
        <p:blipFill>
          <a:blip r:embed="rId2"/>
          <a:stretch/>
        </p:blipFill>
        <p:spPr>
          <a:xfrm rot="418200">
            <a:off x="7230960" y="5019480"/>
            <a:ext cx="166392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esting HTML Ta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25400" y="4032000"/>
            <a:ext cx="819144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Nesting refers to the order in which tags are opened and closed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nter the closing tags in the reverse order from the opening tags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losing tags in a different order than they were opened may keep the browser from displaying the page as intended by the author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7" name="Picture 20" descr="nesting"/>
          <p:cNvPicPr/>
          <p:nvPr/>
        </p:nvPicPr>
        <p:blipFill>
          <a:blip r:embed="rId1"/>
          <a:srcRect l="10609" t="0" r="10938" b="0"/>
          <a:stretch/>
        </p:blipFill>
        <p:spPr>
          <a:xfrm>
            <a:off x="1641600" y="2181240"/>
            <a:ext cx="606564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"/>
          <p:cNvPicPr/>
          <p:nvPr/>
        </p:nvPicPr>
        <p:blipFill>
          <a:blip r:embed="rId1"/>
          <a:srcRect l="0" t="0" r="51482" b="66171"/>
          <a:stretch/>
        </p:blipFill>
        <p:spPr>
          <a:xfrm>
            <a:off x="5092560" y="4881600"/>
            <a:ext cx="3332160" cy="17431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dding Attributes to Tag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4360" y="2031840"/>
            <a:ext cx="8223120" cy="32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ributes provide additional information about tags and control how the tag will be interpreted by the browser. Exampl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nchor tag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lt;a&gt;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defines an anchor that converts text or an image into a hyperlink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lt;a href=“http://www.unc.edu”&gt;University of North Carolina&lt;/a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ref is the attribute instructing the browser to set the text between the anchor tags as a hyperlink to the specified web addres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ules for Using Attribu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84160" y="221148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ttributes are entered inside the opening tag but not in the closing tag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7400" indent="-3474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ttributes are keyed in name/value pairs. Syntax: name=”value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7400" indent="-3474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attribute should have an equal symbol followed by the value or setting for the attribute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7400" indent="-3474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ttribute values should be enclosed inside quotation marks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1523880" y="762120"/>
            <a:ext cx="737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ing Multiple Attribu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065240" y="3340080"/>
            <a:ext cx="3871800" cy="26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ace once between multiple attribut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our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ttribu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lls the browser where the image is located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lt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ttribu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structs the browser to display alternative text if the image file will not load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5" name="Picture 8" descr=""/>
          <p:cNvPicPr/>
          <p:nvPr/>
        </p:nvPicPr>
        <p:blipFill>
          <a:blip r:embed="rId1"/>
          <a:srcRect l="0" t="0" r="57016" b="57164"/>
          <a:stretch/>
        </p:blipFill>
        <p:spPr>
          <a:xfrm>
            <a:off x="5425920" y="3398760"/>
            <a:ext cx="3022920" cy="2259000"/>
          </a:xfrm>
          <a:prstGeom prst="rect">
            <a:avLst/>
          </a:prstGeom>
          <a:ln w="3240">
            <a:solidFill>
              <a:srgbClr val="003366"/>
            </a:solidFill>
            <a:miter/>
          </a:ln>
        </p:spPr>
      </p:pic>
      <p:sp>
        <p:nvSpPr>
          <p:cNvPr id="326" name="Text Box 9"/>
          <p:cNvSpPr/>
          <p:nvPr/>
        </p:nvSpPr>
        <p:spPr>
          <a:xfrm>
            <a:off x="177840" y="6435720"/>
            <a:ext cx="89661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r a comprehensive list of tags and attributes visit www.w3schools.com/html/html_reference.as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1352520" y="2171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Unicode MS"/>
              </a:rPr>
              <a:t>Exampl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&lt;img src=“image.gif” alt=“smiley face image” /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6:08:45Z</dcterms:created>
  <dc:creator>Lee O'Neal</dc:creator>
  <dc:description/>
  <dc:language>en-US</dc:language>
  <cp:lastModifiedBy>ycsadmin</cp:lastModifiedBy>
  <dcterms:modified xsi:type="dcterms:W3CDTF">2011-07-01T18:49:11Z</dcterms:modified>
  <cp:revision>46</cp:revision>
  <dc:subject/>
  <dc:title>Website Development</dc:title>
</cp:coreProperties>
</file>